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9E77E-5760-408C-968D-1619CDF7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766CE-A797-4210-9D36-CE3CAFE5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1CCF9-A039-4A55-990C-096CCFEC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28572-4453-4406-97FA-2066ED9D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4332-3173-46D4-B288-8D7A9F1F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BDD0-86A5-4B1D-9F30-ACDD9B35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99BF-6B7D-44E1-9703-4EEEE996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1ABC-E993-4E01-8BCF-714822C2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FD5E-FB6A-40A1-9D23-F0B44C73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8CF9-02E6-44F0-9F2C-DFC5698A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59EC-A50D-46F0-814F-79F5AFD4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97E75-602E-471C-A8A2-BD9ACB37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82D8-91BF-4FFE-BFFA-E97D56EC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34D5-E801-4701-A6A7-43102BF6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5672-9976-4D72-A71C-75A0BF26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969A-DF2A-4B05-B17C-2AA45B3A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0E94-B350-4443-915F-D1E12BC3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2C67E-D0D6-4E9A-B22C-83048278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F75F8-F07E-4281-8CAF-4EB714A6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A5F19-4931-41F6-A840-16EFA638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FA01C-F5FF-4926-84A6-688E41EE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EDB07-A676-4EC7-A5D4-F92754DB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14232-3CF9-4231-BA0C-8D555939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D2A7F-7160-4956-B816-08F99311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117B-76F9-448D-9240-C4F91BD883B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945C-052A-4D08-A2A7-8C5704ABFE2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2824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15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(Пр.20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По име знае Господ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ъзлюбените Свои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молебний техен шепо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сегда се вслушва Т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всеки род и плем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й Свои чада знай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 любов ще ги прием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целий земен кра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005840"/>
            <a:ext cx="9648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Той мило ги нарич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збраний Свой народ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верност ги обрич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служба до живот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ъс вяра Бог се вижд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в Словото се чуй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ъй крепнат те в надежд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емат жизнен струй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36360" y="1148760"/>
            <a:ext cx="9216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Така ги Той познав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ред многото тълп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ака им Той пода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ръка да ги креп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ак лесно Той съзир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любов къде пламт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ърце кога примир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 Господа ламт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36360" y="1148760"/>
            <a:ext cx="9216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4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мен дай таз надеж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верните Тво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ърце ми в таз надежд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окрай да усто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бъда, Боже, в бро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Твоя свят народ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вред десниц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воя ме води в тоз живот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17T10:06:11Z</dcterms:modified>
  <cp:revision>82</cp:revision>
  <dc:subject/>
  <dc:title>Slide 1</dc:title>
</cp:coreProperties>
</file>